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9D55-B4D0-48E4-8D58-74C2B729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98F6-0F32-4AC1-BCF3-580A0212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5057-61D0-4AF4-B465-DE8283C0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A2D0-C983-4E51-A24D-8B63FF79A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CBA8-A63D-493C-ACAD-460FAB9C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4442-6404-4CC5-976E-250886D1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4396-33AB-480B-91DB-6917B249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7B37-7D8B-4D90-9B4C-8DE17469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3F4E-5363-4414-81EC-737BCF94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570D-1C9E-4D5F-9C31-0D82DFE8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0FA6-FA8B-4190-AAA9-9712AA19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22EA-23AE-4996-963E-75CA0F67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2D61-FC0A-46C6-A135-D2499D7E2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bc.co.uk/education/mathsfile/shockwave/games/datapick.html" TargetMode="External"/><Relationship Id="rId2" Type="http://schemas.openxmlformats.org/officeDocument/2006/relationships/hyperlink" Target="http://education.jlab.org/topquarkgame/index.htm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otmath.com/hotmath_help/games/ctf/ctf_hotmath.swf" TargetMode="External"/><Relationship Id="rId2" Type="http://schemas.openxmlformats.org/officeDocument/2006/relationships/hyperlink" Target="http://hotmath.com/hotmath_help/games/ctf/ctf_hotmath.swf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Statistics/Dat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swbat: review graphing concepts in the MEDIA CENTER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Sites to t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bc.co.uk/education/mathsfile/shockwave/games/datapick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ducation.jlab.org/topquarkgame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oswego.org/ocsd-web/games/BillyBug2/bug2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Here’s some mo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otmath.com/hotmath_help/games/ctf/ctf_hotmath.sw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bbc.co.uk/schools/ks3bitesize/maths/handling_data/representing_data/activity.s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funbrain.com/cgi-bin/co.cgi?A1=c&amp;A2=0&amp;A3=0&amp;A4=0&amp;A5=OisADS&amp;A6=[4][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auhaus 93"/>
              </a:rPr>
              <a:t>Homework: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Bauhaus 93"/>
              </a:rPr>
              <a:t>Finish hurricane refl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22:09:14Z</dcterms:created>
  <dc:creator>ledufra</dc:creator>
  <dc:description/>
  <dc:language>en-US</dc:language>
  <cp:lastModifiedBy>jbmayo</cp:lastModifiedBy>
  <dcterms:modified xsi:type="dcterms:W3CDTF">2011-11-07T14:55:08Z</dcterms:modified>
  <cp:revision>4</cp:revision>
  <dc:subject/>
  <dc:title>Statistics/Data Analysis</dc:title>
</cp:coreProperties>
</file>